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C53-954B-4FFE-9580-58B8210B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942-ABCA-4FD8-8625-1373BC62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568-10BE-4F14-A48C-8023DF0A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663-A188-41AA-AAB7-8CE5DCD1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9A4-4AC9-416A-BBD9-544A6E68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BF9-21A3-45ED-B9E8-9BC96466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866-5473-476A-87B5-8601439A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F8C-0B6F-4595-952D-F2BB8C8A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2C0-69B3-4068-BF8D-BA012DAA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AF1-0734-4822-8641-A8FC197B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3A7-8824-4F86-824C-88C1F83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874-BA6A-48F0-A0EA-6EDE87B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8365-6382-4C15-B1DA-BE02DED9AC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Ana Nina\Desktop\Picture1.jpg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79646"/>
                </a:solidFill>
                <a:latin typeface="Calibri"/>
              </a:rPr>
              <a:t>ТЕРМОТЕРАПИЈ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Тања Зечевић Лу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ерапијско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иперемиј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ртериј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н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иркулац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тиинфламатор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сорп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кстравазат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лимина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т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јач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агоцитоз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етабол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роф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хра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орелаксант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дифуз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илтрац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"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иолош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мбра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еластичност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езивног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кретљив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глобов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тегљив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лаг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зивн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искоз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иновијал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тимулација фагоцит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бактерицидно деј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диуретски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ов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умбал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окрвље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убрег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иурез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пазмолит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ов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едњ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буш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ловљ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лаксаци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латких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им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ристалти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даљене 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ензуална реакција на супротном екстремит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јство на унутрашње органе преко кутивисцералних 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TA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ње срчане фрек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23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оплота је најпопуларнији физикални модалитет у контроли бол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4760" y="3352320"/>
            <a:ext cx="6629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остоје три теорије о механизму ублажавања бола топлотом.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Васкуларна теориј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а изазива вазодилатацију, ш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доводи до смањења исхемиј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повећања оксигенације и нутриције ткив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одстрањења метаболичких продуката који суделују у ноцицепциј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Контраиритирајућа теор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е заснива на 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gate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 контролном механизм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стимулацијом терморецептора прекида се у задњем рогу пренос импулса за бол ка вишим центри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Трећа теор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Директан утицај топлоте на      неуромишићна вретена и на смањење мишићног спазма,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прекида зачарани круг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бол – мишићни спазам – 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Verdana"/>
              </a:rPr>
              <a:t>1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РАФИ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5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рерадо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ф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рк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гљ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ме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соко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лекуларн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гљоводони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обној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чврсто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тањ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ристал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беличас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а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пи се у казанима са двоструким д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пљењ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45º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арафински каз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kazan za parafin"/>
          <p:cNvPicPr/>
          <p:nvPr/>
        </p:nvPicPr>
        <p:blipFill>
          <a:blip r:embed="rId1"/>
          <a:stretch/>
        </p:blipFill>
        <p:spPr>
          <a:xfrm>
            <a:off x="2666880" y="19810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Одлике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елик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апаците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нис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роводљив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(ода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ута)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исо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диферен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60º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)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омпресивно дел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сле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ноје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међу 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врст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ва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на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сиће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оде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прино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љ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одилатац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Начини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ап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аз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ч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нош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етк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ојев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бљи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1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2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иц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рафинск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аск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зметич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рх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рис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себног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онц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иж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ациј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реб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штит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ч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о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нош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ерзиј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ап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лив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е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спршив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Т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М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Т Е Р А П И Ј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Област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Ф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бави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ерапијско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примено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виду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307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загревања</a:t>
            </a:r>
            <a:r>
              <a:rPr b="0" lang="en-US" sz="2400" spc="-1" strike="noStrike" u="sng">
                <a:solidFill>
                  <a:srgbClr val="03070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довођење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термотерапија</a:t>
            </a:r>
            <a:r>
              <a:rPr b="1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ужем</a:t>
            </a:r>
            <a:r>
              <a:rPr b="1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смислу</a:t>
            </a:r>
            <a:r>
              <a:rPr b="1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речи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(топла диферентна зона)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2. хлађења</a:t>
            </a:r>
            <a:r>
              <a:rPr b="0" lang="en-US" sz="2400" spc="-1" strike="noStrike" u="sng">
                <a:solidFill>
                  <a:srgbClr val="03070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одузимање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(хладна диферентна зона) или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крио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арафинска ма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4" descr="C:\Documents and Settings\User\Desktop\parafinska maska.jpg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мерзија (парафинска рукавиц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Parafin imerz"/>
          <p:cNvPicPr/>
          <p:nvPr/>
        </p:nvPicPr>
        <p:blipFill>
          <a:blip r:embed="rId1"/>
          <a:srcRect l="27576" t="0" r="9395" b="27459"/>
          <a:stretch/>
        </p:blipFill>
        <p:spPr>
          <a:xfrm>
            <a:off x="2514600" y="144792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парафин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rehab_1s"/>
          <p:cNvPicPr/>
          <p:nvPr/>
        </p:nvPicPr>
        <p:blipFill>
          <a:blip r:embed="rId1"/>
          <a:stretch/>
        </p:blipFill>
        <p:spPr>
          <a:xfrm>
            <a:off x="1330200" y="1143000"/>
            <a:ext cx="1031904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DSCF0101"/>
          <p:cNvPicPr/>
          <p:nvPr/>
        </p:nvPicPr>
        <p:blipFill>
          <a:blip r:embed="rId2"/>
          <a:stretch/>
        </p:blipFill>
        <p:spPr>
          <a:xfrm>
            <a:off x="685800" y="2819520"/>
            <a:ext cx="3220920" cy="355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14440" y="13712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в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ливинил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ланел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бру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ун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ани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(,,суво паковање,,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3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ину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завршетк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нов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мот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уво паковање 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2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old pack"/>
          <p:cNvPicPr/>
          <p:nvPr/>
        </p:nvPicPr>
        <p:blipFill>
          <a:blip r:embed="rId1"/>
          <a:stretch/>
        </p:blipFill>
        <p:spPr>
          <a:xfrm>
            <a:off x="2133720" y="3048120"/>
            <a:ext cx="4495680" cy="2014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514600" y="1219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това пак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Pelo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=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му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зе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уљ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ес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ерал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улкан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м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физ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вој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емијск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Parafango"/>
          <p:cNvPicPr/>
          <p:nvPr/>
        </p:nvPicPr>
        <p:blipFill>
          <a:blip r:embed="rId1"/>
          <a:stretch/>
        </p:blipFill>
        <p:spPr>
          <a:xfrm>
            <a:off x="914400" y="1600200"/>
            <a:ext cx="2417760" cy="25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arafango aplikacija3"/>
          <p:cNvPicPr/>
          <p:nvPr/>
        </p:nvPicPr>
        <p:blipFill>
          <a:blip r:embed="rId2"/>
          <a:stretch/>
        </p:blipFill>
        <p:spPr>
          <a:xfrm>
            <a:off x="609480" y="4200480"/>
            <a:ext cx="2847960" cy="2414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9880" y="914040"/>
            <a:ext cx="5105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1   увиј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лоид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1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Локалн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о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а и чаршав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бљи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5-6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есник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мот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2-45º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5-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нов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е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т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врш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уширање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;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буч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мар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об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2.Општ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о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т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а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птерећ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рочит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В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Општа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купка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ерал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рск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ич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но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:3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:1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ус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т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лу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= 39º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ушир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-4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еханизам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јств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механич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хемијс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хемијск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сумпор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водоник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угљен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диоксид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радон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јон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биолошки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активн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ензим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хормон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д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елаз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спољавајућ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армакодинамск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3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РАФАНГ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ешави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лековит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блат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вулканск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АНГ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чим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омогенизова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ин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гранулиса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мес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5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леранци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60º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4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апи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с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ли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р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жу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о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др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ли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ит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сеја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ит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ли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др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0%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трију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орид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к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е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атил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38-4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личи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за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ред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нетич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нерг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лек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то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д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солут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-273,15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д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и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ред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ет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лек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то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диферен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дијум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м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нос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м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22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a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34-36 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38-39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 54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5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САМ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еч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ја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ско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огодан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бог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во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хигроскопно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брз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п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ној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могућа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одужен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ној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обр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однос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окалних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пштих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45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5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прочишћени</a:t>
            </a:r>
            <a:r>
              <a:rPr b="1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ситнозрнасти</a:t>
            </a:r>
            <a:r>
              <a:rPr b="1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итк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етал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удов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пецијал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ређај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рве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андуц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е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унц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ажа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мбинациј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хелиотерпијо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4290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6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АУ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881520" cy="3827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800" y="685440"/>
            <a:ext cx="5029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вишекратна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ваздушна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уп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в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ед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идротерапијс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д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ферет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о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лив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уш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ишекрат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двофазног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надража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в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ђе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коли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вра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рав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5-2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стор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тепе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зв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ув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(60º-110º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Терморегулациони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механиз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аст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º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праће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интензивним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знојењ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нос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39º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лаг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ипертерм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)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ок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луч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0-80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200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л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зн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КВ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а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јастол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брзањ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хлађ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реквен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јастол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чем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одит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ачу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ипертенз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мотор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тренинг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егул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реквен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с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Бубре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ма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егулаци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ун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убрег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Кожа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мунит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бољш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ун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к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тпорност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е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нфекција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ндикације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за сауну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у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мање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азомотор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ак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рашћив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а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сорија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генер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умат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спираторн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нгиопат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I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II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дију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специф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инеколош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онтраиндикације за сауну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кут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компенз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талних орга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angina pectori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4-6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сеци 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нфарк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лиц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ипертенз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већа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тп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ућ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воток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трал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ено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егет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абилност,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ипертирео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лку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ентрику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уоде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ум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лиг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це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колоратор пако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брички упакован гел ставња се у памучне врећице у обику јастуч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рева се у специјалним  судовима напуњеним водом (24 сата да би постао извор топл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мотава се у вишеструко савијене убрусе и апликује 20-30 мин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Индикације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термотерапију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Latn-CS" sz="2100" spc="-1" strike="noStrike">
                <a:solidFill>
                  <a:srgbClr val="0d0a10"/>
                </a:solidFill>
                <a:latin typeface="Calibri"/>
              </a:rPr>
              <a:t>RA,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100" spc="-1" strike="noStrike">
                <a:solidFill>
                  <a:srgbClr val="0d0a10"/>
                </a:solidFill>
                <a:latin typeface="Calibri"/>
              </a:rPr>
              <a:t>Bechtere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w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егенератив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ртроз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пондилоз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)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ванзглоб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енте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тендин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иофибро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бур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реуматичк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стањ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повред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меких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бар 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48-72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ат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вред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неспецифичн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инусит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роничн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тит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гинеколошк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филтрат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ируршких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тервенциј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фурункулоз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уг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фециј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болови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локомоторног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уколико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нису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роузрокован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кутни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е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ртеријск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клузиј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алигни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роцес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неруролошка: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штећења периферних нерава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Контраиндикације</a:t>
            </a:r>
            <a:r>
              <a:rPr b="0" lang="en-US" sz="4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з</a:t>
            </a:r>
            <a:r>
              <a:rPr b="0" lang="en-US" sz="4000" spc="-1" strike="noStrike" u="sng">
                <a:solidFill>
                  <a:srgbClr val="0d0a10"/>
                </a:solidFill>
                <a:uFillTx/>
                <a:latin typeface="Calibri"/>
              </a:rPr>
              <a:t>a</a:t>
            </a: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 термотерап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алигн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умор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кутн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паљењск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оцес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ебрил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т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енстру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клузив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ртеријск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уберкулоз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компензац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ућа,бубрега,јетре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раже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хипертиреоз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вар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клоност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варењ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рушен интегритет коже на месту приме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ултипла склероз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лативне контраиндикације за терм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 периферне цирк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 сензибилитета за термичке дра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Б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) 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Ј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криотерапиј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ниж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јств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врх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азликова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хипотерм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ниж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лес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личи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за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120" y="144792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леран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–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ксим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дне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е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ећа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од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5 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5-5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              52º 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7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10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апацитет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лич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раж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лорија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реб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1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цм</a:t>
            </a:r>
            <a:r>
              <a:rPr b="0" lang="sr-Latn-CS" sz="2400" spc="-1" strike="noStrike" u="sng">
                <a:solidFill>
                  <a:srgbClr val="0d0a10"/>
                </a:solidFill>
                <a:uFillTx/>
                <a:latin typeface="Calibri"/>
              </a:rPr>
              <a:t>3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пстанц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1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пецифична топло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криотера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ли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ктивност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нз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ниже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за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рв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кож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ладноћ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аузео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лашц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) –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имулациј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р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ачањ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пштег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рган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импатичк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ервн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лак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импатикотоничк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анифесту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азоконстрикцијом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роприорецепто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шић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уромишић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те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у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ам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оторних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уро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ам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пастичност,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лф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оторних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уро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стинактивитетн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ипотони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келетн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ускула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кож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ест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ов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услед</a:t>
            </a:r>
            <a:r>
              <a:rPr b="0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надражаја</a:t>
            </a:r>
            <a:r>
              <a:rPr b="0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импатику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аћен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ледило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нижењ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сећај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то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нфлам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налгез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раткотрај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ов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чет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екундар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јављ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дилатац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со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ртериосклерозом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,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дијабетом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ли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нгио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пастичним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Latn-C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обољењи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јство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ћ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парадоксалн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реакциј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Јављ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мар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констрикц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оста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кундар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дилатација. Уколик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дражај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у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ћ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штећ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ишићни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гам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спастичн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есни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оштећењем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горњег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оторног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неурон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заштитн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реакциј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ишић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услед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зв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алф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спастичност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ћ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знат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в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активитетне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атрофије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обилиза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ровања,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иотерап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ољ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наг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држљив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 увод 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незитерап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ефек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схлађ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виш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етљ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-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делт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влак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провод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р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ма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исок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а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дража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-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гам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влак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живчава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еуромишић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рете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еханизам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аналге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лобађ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пстан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ндук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дукц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ецепто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рв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лака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честал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пул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локир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ла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пул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дњ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огов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чме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жд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/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в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укц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ндоге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иоида 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gat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control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чара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уг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ехника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2-3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, 5-6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убјективни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осећај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жарењ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ако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испарљиве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Crio cuff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48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ати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Хладн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1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аковањ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ешкиро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хладн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гмент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30-60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ауз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еколи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мину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3-5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25-30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слан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сцед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вишестру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есави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вуч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ес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замрзивач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адржај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ол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безбеђу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авитљивост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вађењ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замрзивач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његов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лакш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делов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Кесе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ледом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омадић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тављај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ес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остављ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фикс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дговарајућ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кес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е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ankle_30"/>
          <p:cNvPicPr/>
          <p:nvPr/>
        </p:nvPicPr>
        <p:blipFill>
          <a:blip r:embed="rId1"/>
          <a:stretch/>
        </p:blipFill>
        <p:spPr>
          <a:xfrm>
            <a:off x="2057400" y="1523880"/>
            <a:ext cx="487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исталних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ло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ша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опал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ден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вљање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мадић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уз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30-6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4-6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Kontrasne kupke"/>
          <p:cNvPicPr/>
          <p:nvPr/>
        </p:nvPicPr>
        <p:blipFill>
          <a:blip r:embed="rId1"/>
          <a:stretch/>
        </p:blipFill>
        <p:spPr>
          <a:xfrm>
            <a:off x="5791320" y="2133720"/>
            <a:ext cx="314316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3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аж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гмент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ом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чашу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огурт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лиј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шпатул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мрзивач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н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ребног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варањ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чаш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ом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љ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ак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акш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звади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ницијал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уп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лата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пријатан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осећај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в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уг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изијатриј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г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жбе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DSC02502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71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DSC02504"/>
          <p:cNvPicPr/>
          <p:nvPr/>
        </p:nvPicPr>
        <p:blipFill>
          <a:blip r:embed="rId2"/>
          <a:stretch/>
        </p:blipFill>
        <p:spPr>
          <a:xfrm>
            <a:off x="5791320" y="40384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4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Лако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спарљиве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армацеутск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роизвод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у</a:t>
            </a:r>
            <a:r>
              <a:rPr b="0" lang="en-US" sz="3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виду</a:t>
            </a:r>
            <a:r>
              <a:rPr b="0" lang="en-US" sz="3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спре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chlor ethyl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)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вод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локалн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лађењ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јчешћ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рис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портски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реним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кутних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овред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портист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арактеристика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преносиоца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орист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физикалној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медицин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елики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плотни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капац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Мал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плотн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проводљив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исо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индиферентн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емп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исо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лера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5. Cryo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cuff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вре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хлађење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омпрес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моизолацио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ејне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прем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4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и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вољ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8-10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умено црево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нти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нже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тављ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диз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ејне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тим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27-33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нжет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вазоконстрик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компрес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Cryo cuff meto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Krio%20kuf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7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Хладн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директно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славин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=10-12º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5-10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ак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тав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спод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млаз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в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иш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аузам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којим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звод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активн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ежб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еб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епоручуј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код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пацијенат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пастичношћ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општих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купк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27º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(10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),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спеш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код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пацијенат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МС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пастичност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лакшав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звођењ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активних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ежб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тепе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дужав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Индикације</a:t>
            </a:r>
            <a:r>
              <a:rPr b="0" lang="sr-Latn-C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sr-Latn-C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кри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Аку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фламациј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то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рвенил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иш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гранич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унк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М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паљењ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еумат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кут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дијум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ре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к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у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стор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стен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цијал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упт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т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пастично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овишен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игид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Бол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тањ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ЛМ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арат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ув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инезитерап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Контраиндикације     за криотерап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ж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штећ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циркулац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риферни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ртеријам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штећ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нзибилите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мрзли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лерг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адноћ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Mb Burger,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arterioskleroza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 (опструкција)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Mb Rauna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u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yd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 (вазоспаз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риферни нерви у току регенер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во раме код коронарне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животн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зна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7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рос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л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нтраиндик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,узнемиреност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изици криопроцед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пределу главице фибуле и у пределу лакта  могу да изазову реверзибилну нервну блока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дозирана доводи до промрзлина и некрозе 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Пренос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е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ДУ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рек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ије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дн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и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зли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водљив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реп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иг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лектрич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астуч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ДИЈ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но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лектромагне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че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ц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рект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вор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В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дију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њ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етања (вода или вазду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в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то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0" lang="en-US" sz="2400" spc="-1" strike="noStrike">
                <a:solidFill>
                  <a:srgbClr val="0d0a1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дв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модалитет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20570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ао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површинска (егзогена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−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идроколато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луидотерап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ц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1 цм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ао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дубинск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(ендогена)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–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г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ат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ла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кротала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ршинс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и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љ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кож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мич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олатор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инс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ире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ље 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кож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8224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Топла диферентна 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38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ин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анг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Г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сам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ау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раткоталасна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ијатермија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ТД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идроколоратор 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крвне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судове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азодилатација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ипа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ктивне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иперемије (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Dastre Morat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 зак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ервни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систем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датив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брзи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роводљивост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риферни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ер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мишић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дсуство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контракци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пуштањем (алфа спастичнос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везивно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тки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еластичност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езивног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метабол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брз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емијски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еакциј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им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ср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тич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начајни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а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диж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елесн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емператур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1º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брзавај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рчан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а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ткуцај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вај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нутн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олуме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аст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00:35Z</dcterms:created>
  <dc:creator>Veljkovic Miodrag</dc:creator>
  <dc:description/>
  <dc:language>en-US</dc:language>
  <cp:lastModifiedBy>Info</cp:lastModifiedBy>
  <dcterms:modified xsi:type="dcterms:W3CDTF">2018-09-13T07:49:27Z</dcterms:modified>
  <cp:revision>87</cp:revision>
  <dc:subject/>
  <dc:title>Slide 1</dc:title>
</cp:coreProperties>
</file>